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A1FE7-A090-4538-88DF-7984D8F8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7D82D-5BCD-46FD-973F-C21EF980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74E0-7B4C-4D34-93B2-2DF4120B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05711-B22D-430F-9F83-22D4E60D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19C6-E36E-4072-83BD-D9898A12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3C58-CB00-4259-A9A1-191ABA7F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5447-04A7-46C5-9067-E82E089C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0343-11D5-4B1A-AE5D-0E4631F5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CECA-4978-4300-9F2A-09CF1928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3036-AD18-416C-BDA0-5473BB70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23C2-B960-4642-A3E0-B2DC6E8C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F89A-166A-4413-B325-89AC6050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5602-B1D3-4AEA-B88C-515E936E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68D1-8EC6-470A-9205-6CAC7355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2338-E397-4748-8E51-A438F2F9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734D-7A44-4D6D-B37E-D3509E1E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A911-DFB8-402B-A565-8C54B2F1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90BF-F3A6-4098-8AD9-A299FFA0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3C892-51BD-4384-854F-75A333BC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05C8C-5A1D-4CA1-A4E7-CAE2D3D4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64BA-8BAE-49B3-9AD2-838A91AD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4B8F-8D21-4B2A-9F74-694BDA28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E66ED-C7BC-4E3C-815A-9F2EFEE8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E9B7-46E7-4D74-A13E-8FF6095E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F9A6-C480-472B-BD30-E3D9F25644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B7E6-977A-4822-A41C-80E67C1B79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orth40.ca/New%20Folder/Worm%20Album/images/Pinworm_jpg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130120"/>
            <a:ext cx="5791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KINGDOM</a:t>
            </a:r>
            <a:r>
              <a:rPr b="0" lang="en-US" sz="9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NIMALIA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animal diversity collage"/>
          <p:cNvPicPr/>
          <p:nvPr/>
        </p:nvPicPr>
        <p:blipFill>
          <a:blip r:embed="rId1"/>
          <a:stretch/>
        </p:blipFill>
        <p:spPr>
          <a:xfrm>
            <a:off x="6292800" y="0"/>
            <a:ext cx="2851200" cy="5181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nidocytes: cells that contain stinging poisonous barbs with which they paralyze pr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body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polyp: sessile, tentacles up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ral, hy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medusa: free swimming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entacles down – jelly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724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estive body cavity surrounded by two layers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ual or asexual reproduction – hydra reproduces by 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al reefs build up and are important ocean habi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348000" cy="424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.  Phylum Platyhelmint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 flatworms, tapeworms, flu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2971800" cy="2233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715000" y="2590920"/>
            <a:ext cx="2981160" cy="2274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276720" y="4419720"/>
            <a:ext cx="3124080" cy="209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parasitic forms - cause many diseases of people and live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lateral symmetry and cephalization (concentration of sensory organs and nervous tissue in the h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digestive opening (pharynx) to take in food and release waste – most don’t need complex digestive systems because food has already been digested by their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are hermaphroditic, some can regenerate lost body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. Phylum Nemat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 roundworms (pinworms, hookwo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352680"/>
            <a:ext cx="3990960" cy="2705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181480" y="3124080"/>
            <a:ext cx="3000600" cy="30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are microsc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digestive openings: mouth and anus – food moves only 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 sexual reproduction; usually separate sexes; no 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are free-living, many are parasitic – you can be infected by consuming contaminated food/water or by being bitten by 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I. Phylum Annel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 segmented worms, earthworms, l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164040" cy="3581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4538880" cy="239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dy divided into many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digestive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phary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giz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d circulatory system: blood stays within vesse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main vein is dorsal (upper/bac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5 aortic arches: function as simple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thworm is hermaphroditic; others have separate s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thworms are important in the soil ecosystem– provide passageways for plant roots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II.  Phylum Mollus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 snails, clams, octopus, s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3600360" cy="3009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3886200" cy="2904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General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cellular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s (Heterotrop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orga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divis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ebrates &amp; Verteb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lusks and annelids have a true coelom (body ca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muscular foot: used for motion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ttachment – the foot may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odified into tenta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mantle: soft, outer layer of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visceral mass: contains most 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ternal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gills or lungs: located in the mant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groups of mollu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gastropods (“stomach-foot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valves: one shell, brea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lungs; example: sn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valves: two shells, brea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gills; example: c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cephalopods (“head-foot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ot is modified into tentacle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e with gills;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 octopus, s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ual reproduction: most have separate sexes, some are hermaphrod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have an open circulatory system (blood is contained within vessels that empty into sinus cavities).  Cephalopods have a closed system (blood remains within vesse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mollusks are marine, but some live in fresh water or on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X. Phylum Arthrop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rgest phylum – found in almost all places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oskel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 Outside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Very good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Does not grow, so it must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shed periodically (mol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paired, jointed appendages (bod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exten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open circul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ventral (lower/belly side) nerve 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fied based 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ber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of bod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gments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57800" y="3962520"/>
            <a:ext cx="3219480" cy="221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ipedes and Millipe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most primitive arthrop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obvious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entipedes (Class Chilopo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one pair of legs pe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poisonous fang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for killing pr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long anten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1258" b="3429"/>
          <a:stretch/>
        </p:blipFill>
        <p:spPr>
          <a:xfrm>
            <a:off x="6019920" y="3352680"/>
            <a:ext cx="2819160" cy="304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illipedes (Class Diplopo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two pairs of legs per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one pair of short anten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usually harmless vegetar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577040" cy="252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ustaceans (Class Crustac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examples: lobster, crayfish, shri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2914920" cy="2428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752480" y="3886200"/>
            <a:ext cx="2438640" cy="2505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are ma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body reg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cephalotho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abdomen (divided into 7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seg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short pair of antennae (1 long,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 p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mmerets: appendages o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domen used for swi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e by gills attached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mmer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pair of large c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4 pairs of walking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791240" cy="347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24280" y="2733840"/>
            <a:ext cx="4419720" cy="4124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 have 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5120" y="133776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in proportions of an object or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egular body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can be divided along any plane, through the central axis, into roughly equal h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ateral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can be divided down its length into similar right and left halves that form mirror images of one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achnids (Class Arachni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examples: spiders, ticks, mite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scor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2895480" cy="2395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809880" y="4572000"/>
            <a:ext cx="1704960" cy="2038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rcRect l="12905" t="0" r="14421" b="0"/>
          <a:stretch/>
        </p:blipFill>
        <p:spPr>
          <a:xfrm>
            <a:off x="6477120" y="1981080"/>
            <a:ext cx="2450880" cy="3776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spider.jpg (339937 bytes)"/>
          <p:cNvPicPr/>
          <p:nvPr/>
        </p:nvPicPr>
        <p:blipFill>
          <a:blip r:embed="rId4"/>
          <a:stretch/>
        </p:blipFill>
        <p:spPr>
          <a:xfrm>
            <a:off x="228600" y="2590920"/>
            <a:ext cx="3486240" cy="277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body reg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cephalotho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abdomen: no appendages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abd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anten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pairs of walking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parts modified as fang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helicerae) to stab prey and suc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 body 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 lungs (gills modified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ing on l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cts (Class Insec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ver 75% of all animal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first animals to develop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5162760" cy="258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 three body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thorax (with 3 pairs of le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abd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usually 1 or 2 pairs of 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1 pair of anten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 compound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  respiration through a system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tubes called trachea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metamorphosis: a series of chang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which young insects develop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o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some insect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do not carry 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metamorphosi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(silverf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0" r="3450" b="3569"/>
          <a:stretch/>
        </p:blipFill>
        <p:spPr>
          <a:xfrm>
            <a:off x="5486400" y="1981080"/>
            <a:ext cx="25290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457200"/>
            <a:ext cx="5791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plete (gradual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morphos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grasshop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nymph (look li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adults, but smaller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with no wings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reproductiv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org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2857680" cy="241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334120" y="4419720"/>
            <a:ext cx="3105000" cy="2181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metamorphos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butterflies, b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larva (caterpill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pu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It may look still, but the caterpillar is wriggling out of this last skin like a too tight shirt!"/>
          <p:cNvPicPr/>
          <p:nvPr/>
        </p:nvPicPr>
        <p:blipFill>
          <a:blip r:embed="rId1"/>
          <a:stretch/>
        </p:blipFill>
        <p:spPr>
          <a:xfrm>
            <a:off x="457200" y="4114800"/>
            <a:ext cx="2819520" cy="2454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It will remain in this stage for about 10-12 days as the caterpillar's entire body is reorganized into a butterfly; metamorphosis!"/>
          <p:cNvPicPr/>
          <p:nvPr/>
        </p:nvPicPr>
        <p:blipFill>
          <a:blip r:embed="rId2"/>
          <a:stretch/>
        </p:blipFill>
        <p:spPr>
          <a:xfrm>
            <a:off x="3581280" y="4114800"/>
            <a:ext cx="2590920" cy="2233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The wings are damp for a few hours before it is able to fly.  During this time, the monarch is very vulnerable to predators."/>
          <p:cNvPicPr/>
          <p:nvPr/>
        </p:nvPicPr>
        <p:blipFill>
          <a:blip r:embed="rId3"/>
          <a:stretch/>
        </p:blipFill>
        <p:spPr>
          <a:xfrm>
            <a:off x="6400800" y="2743200"/>
            <a:ext cx="2430360" cy="373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. Phylum Echinoder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 means “spiny sk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in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al symmetry – body parts usually in multiples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larvae have bilateral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have  a fairly close relationship to verteb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er vascu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system of internal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arries out functions of circulation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spiration, and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be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act like living suction c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help in movement and f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 sea urchins, sand dollars, star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14446" t="0" r="12666" b="0"/>
          <a:stretch/>
        </p:blipFill>
        <p:spPr>
          <a:xfrm>
            <a:off x="5638680" y="144792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819520" y="3962520"/>
            <a:ext cx="3504960" cy="2576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rcRect l="10606" t="0" r="4534" b="0"/>
          <a:stretch/>
        </p:blipFill>
        <p:spPr>
          <a:xfrm>
            <a:off x="457200" y="1905120"/>
            <a:ext cx="2895480" cy="245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cavity surrounded by a mesod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el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ell layers with a digestive tract but no bod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coel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-filled body cavity partly lined with 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I. Comparing 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alized cells, tissues, and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Sponges and Cnidarians: litt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internal spec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Flatworms: simple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More complex invertebrates: org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dy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sponges: no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nidarians and echinoderms: radi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all other phyla: bilateral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phalization: concentration of sense organs and nerve cells in the front of th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sponges: no ner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nidarians: nerve 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worms and arthropods: group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rves called gang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ollusks: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lom formation: body cavity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sponges and cnidarians: two cel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layers with a jellylike materi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other invertebrates have 3 cel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ypes of coelo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flatworms: no body cavi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(acoelom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roundworms: body cavity parti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lined with mesoder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(pseudocoelom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other invertebrates: body cavi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completely lined with mesoder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(coelom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763120" cy="588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ding and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intracellular digestion: food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broken down inside cells (low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nim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extracellular digestion: food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digested and then enters the cells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enables digestion of larger pie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of food (higher invertebr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diffusion through skin: man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gills: aquatic invertebrates (man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ollusks and arthrop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mantle cavity: s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book lungs: sp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racheal tubes: many 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pen circulatory system: bloo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es not stay within vessel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mpties into sinuses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xamples: arthropods, mo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ollu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losed circulatory system: bloo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mains within vessels; example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nelids, some mollu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ement a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hydrostatic skeleton: fluid-fi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body cavity supports the muscles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examples: annelids, jelly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exoskeleton: skeleton is outsi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the body; examples: arthrop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endoskeleton: located insid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body; examples: verteb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without a 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if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idar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all animals reproduce sexually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me may also reproduce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external fertilization: (usually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ater) eggs and sperm are releas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to the surrounding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internal fertilization: (usual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and) eggs are fertilized insid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ody of the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vertebrat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lum Porif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spo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d means “pore bear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 sponges: nonliving material that remains after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sponges.jpg (13004 bytes)"/>
          <p:cNvPicPr/>
          <p:nvPr/>
        </p:nvPicPr>
        <p:blipFill>
          <a:blip r:embed="rId1"/>
          <a:stretch/>
        </p:blipFill>
        <p:spPr>
          <a:xfrm>
            <a:off x="5029200" y="1523880"/>
            <a:ext cx="3533760" cy="272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4343400"/>
            <a:ext cx="184140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ssile: live attached to a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have nerve cells or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er feeders: pump water in and out and feed on the organic material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are hermaphrodites: able to produce male and female gametes – an advantage for sessile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reassemble when frag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I.  Phylum Cnid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 coral, jellyfish, sea anem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 pink sea anemone"/>
          <p:cNvPicPr/>
          <p:nvPr/>
        </p:nvPicPr>
        <p:blipFill>
          <a:blip r:embed="rId2"/>
          <a:stretch/>
        </p:blipFill>
        <p:spPr>
          <a:xfrm>
            <a:off x="304920" y="2743200"/>
            <a:ext cx="4209840" cy="31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5:34:07Z</dcterms:created>
  <dc:creator>amiddaugh</dc:creator>
  <dc:description/>
  <dc:language>en-US</dc:language>
  <cp:lastModifiedBy>Tricia</cp:lastModifiedBy>
  <dcterms:modified xsi:type="dcterms:W3CDTF">2007-07-24T13:49:09Z</dcterms:modified>
  <cp:revision>97</cp:revision>
  <dc:subject/>
  <dc:title>Invertebrates</dc:title>
</cp:coreProperties>
</file>